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arrow.wav" ContentType="audio/x-wav"/>
  <Override PartName="/ppt/media/image13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E735-4E38-4917-A680-CD585DF3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84F3-67E3-49C5-83BB-45141C90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1089-7D80-46EC-9F4D-085805CA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BC42-7B3C-446F-BFD1-CF6B2273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9A28-F843-499E-AFDE-F6BA23D1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E180-F8D6-4760-B584-757E0824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1392-7B8E-4D97-823B-05166C05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8CC5-9304-483E-8F40-2444FDAD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C5EC-2CB3-4DAF-A78B-26B7F59D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3C65-1A22-44FC-ADE5-A8AABE1A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E7FE-51B4-4271-A9C8-CD5A275A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5E97-4CD7-4002-B8FE-DD5D8055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304E-D5E8-4775-A13A-36C5FD3F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9BC3-B1CC-4520-8617-CBCA469F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2444-166B-4B4F-BC88-18264155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4C04-33B5-4F62-BDB6-F7BA0726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7AC6-77BA-4C08-A130-B6EE636D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CFD6-9484-42E4-859B-ABC4E53E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E3ED-80D3-422D-A978-1D4C7EE1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029A-C929-41CA-B764-83AD210C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EAB7-1519-4DDA-8690-1ABA77A1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6350-A0D7-4D38-905E-B40AD2FB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D585-98B4-4ED2-A5A1-05E1F6D0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29D6-CA93-483E-BDA8-6DF75919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33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D28A-DA8D-4B6B-A0E0-0D7D081D24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33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cc66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FFFC-895D-4A08-9880-B92C98210122}" type="slidenum">
              <a:rPr b="0" lang="en-US" sz="10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ya, Aztec, Inca Re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Mexica-tenochtitlan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Tenochtitlan-768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Tenochtitlan_National_Palace_Diego_Rive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n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1400-1532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West coast of South America along the Andes Mountains (Peru)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expert builders (Macchu Picchu)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erraces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 throughout Andes Mountains for farming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medically advanced (brain surgery)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largest empire in the Americas (land and population)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machu_picch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5136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y developed an early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365-day calendar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to plan religious activities and farming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oudy Stout"/>
              </a:rPr>
              <a:t>MAY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4" name="Picture 8" descr="calendar_maya"/>
          <p:cNvPicPr/>
          <p:nvPr/>
        </p:nvPicPr>
        <p:blipFill>
          <a:blip r:embed="rId1"/>
          <a:stretch/>
        </p:blipFill>
        <p:spPr>
          <a:xfrm>
            <a:off x="949320" y="2065320"/>
            <a:ext cx="3759120" cy="39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85136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y grew enough crops to feed its ten million citizens by carving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terraces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into the mountainous terrain of the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Andes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, and growing corn, potatoes and more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38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oudy Stout"/>
              </a:rPr>
              <a:t>iNC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7" name="Picture 8" descr="IMAGE # i20"/>
          <p:cNvPicPr/>
          <p:nvPr/>
        </p:nvPicPr>
        <p:blipFill>
          <a:blip r:embed="rId1"/>
          <a:stretch/>
        </p:blipFill>
        <p:spPr>
          <a:xfrm>
            <a:off x="609480" y="17524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5136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y built the amazing city of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Tenochtitlan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– complete with stone pyramid structures, drawbridges and floating gardens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31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oudy Stout"/>
              </a:rPr>
              <a:t>AZTEC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0" name="Picture 10" descr="Tenochtitlan_National_Palace_Diego_Rivera"/>
          <p:cNvPicPr/>
          <p:nvPr/>
        </p:nvPicPr>
        <p:blipFill>
          <a:blip r:embed="rId1"/>
          <a:stretch/>
        </p:blipFill>
        <p:spPr>
          <a:xfrm>
            <a:off x="228600" y="2362320"/>
            <a:ext cx="43434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5136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Which civilization controlled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the most land area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oudy Stout"/>
              </a:rPr>
              <a:t>iNC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3" name="Picture 7" descr="P027_MAP"/>
          <p:cNvPicPr/>
          <p:nvPr/>
        </p:nvPicPr>
        <p:blipFill>
          <a:blip r:embed="rId1"/>
          <a:stretch/>
        </p:blipFill>
        <p:spPr>
          <a:xfrm>
            <a:off x="304920" y="18288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5136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y had the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first written language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in the Americas, with over 500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glyphs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to represent different ideas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oudy Stout"/>
              </a:rPr>
              <a:t>MAY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6" name="Picture 7" descr="WebPage-ImageF"/>
          <p:cNvPicPr/>
          <p:nvPr/>
        </p:nvPicPr>
        <p:blipFill>
          <a:blip r:embed="rId1"/>
          <a:stretch/>
        </p:blipFill>
        <p:spPr>
          <a:xfrm>
            <a:off x="152280" y="2286000"/>
            <a:ext cx="43434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P017-CHART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5136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38840" indent="-43884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No written language, but they had a record-keeping system of knotted strings called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quipus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3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38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oudy Stout"/>
              </a:rPr>
              <a:t>iNC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29" name="Picture 8" descr="quipu2"/>
          <p:cNvPicPr/>
          <p:nvPr/>
        </p:nvPicPr>
        <p:blipFill>
          <a:blip r:embed="rId1"/>
          <a:stretch/>
        </p:blipFill>
        <p:spPr>
          <a:xfrm>
            <a:off x="992160" y="2678040"/>
            <a:ext cx="4268880" cy="32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85136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When their powerful military conquered other Native American groups, they often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sacrificed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captured enemies to the Gods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31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oudy Stout"/>
              </a:rPr>
              <a:t>AZTEC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2" name="Picture 8" descr="aztecs40"/>
          <p:cNvPicPr/>
          <p:nvPr/>
        </p:nvPicPr>
        <p:blipFill>
          <a:blip r:embed="rId1"/>
          <a:stretch/>
        </p:blipFill>
        <p:spPr>
          <a:xfrm>
            <a:off x="762120" y="1981080"/>
            <a:ext cx="312408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5136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Which is the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westernmost civilization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shown on the map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oudy Stout"/>
              </a:rPr>
              <a:t>AZTEC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5" name="Picture 4" descr="P027_MAP"/>
          <p:cNvPicPr/>
          <p:nvPr/>
        </p:nvPicPr>
        <p:blipFill>
          <a:blip r:embed="rId1"/>
          <a:stretch/>
        </p:blipFill>
        <p:spPr>
          <a:xfrm>
            <a:off x="304920" y="18288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5136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34160" indent="-43416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y were advanced medically, even successfully practicing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brain surgery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centuries ago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34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341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oudy Stout"/>
              </a:rPr>
              <a:t>iNC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34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38" name="Picture 8" descr="86617"/>
          <p:cNvPicPr/>
          <p:nvPr/>
        </p:nvPicPr>
        <p:blipFill>
          <a:blip r:embed="rId1"/>
          <a:stretch/>
        </p:blipFill>
        <p:spPr>
          <a:xfrm>
            <a:off x="1020600" y="2058840"/>
            <a:ext cx="3327480" cy="2063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trep1"/>
          <p:cNvPicPr/>
          <p:nvPr/>
        </p:nvPicPr>
        <p:blipFill>
          <a:blip r:embed="rId2"/>
          <a:stretch/>
        </p:blipFill>
        <p:spPr>
          <a:xfrm>
            <a:off x="1143000" y="4191120"/>
            <a:ext cx="2666880" cy="23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5136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41184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ince the dry soil was not good for farming, they planted “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floating crops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” on reed mats.  The crops rooted themselves in the shallow lake bed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1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11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oudy Stout"/>
              </a:rPr>
              <a:t>AZTEC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2" name="Picture 7" descr="119_00_2"/>
          <p:cNvPicPr/>
          <p:nvPr/>
        </p:nvPicPr>
        <p:blipFill>
          <a:blip r:embed="rId1"/>
          <a:stretch/>
        </p:blipFill>
        <p:spPr>
          <a:xfrm>
            <a:off x="228600" y="2590920"/>
            <a:ext cx="419112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85136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41616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ir civilization declined around 900AD.  Archaeologists are still trying to solve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the mystery of the end of this great civilization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16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161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Goudy Stout"/>
              </a:rPr>
              <a:t>mAY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45" name="Picture 8" descr="Tikal"/>
          <p:cNvPicPr/>
          <p:nvPr/>
        </p:nvPicPr>
        <p:blipFill>
          <a:blip r:embed="rId1"/>
          <a:stretch/>
        </p:blipFill>
        <p:spPr>
          <a:xfrm>
            <a:off x="609480" y="2133720"/>
            <a:ext cx="335304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1" descr="Emperors_new_groove"/>
          <p:cNvPicPr/>
          <p:nvPr/>
        </p:nvPicPr>
        <p:blipFill>
          <a:blip r:embed="rId1"/>
          <a:stretch/>
        </p:blipFill>
        <p:spPr>
          <a:xfrm>
            <a:off x="1467000" y="1981080"/>
            <a:ext cx="2724120" cy="41148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85136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n the Disney movie based on this civilization, the main character is named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Cuzco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, after the capital city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oudy Stout"/>
              </a:rPr>
              <a:t>iNC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5136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Which civilization is shown in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red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oudy Stout"/>
              </a:rPr>
              <a:t>MAY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1" name="Picture 4" descr="P027_MAP"/>
          <p:cNvPicPr/>
          <p:nvPr/>
        </p:nvPicPr>
        <p:blipFill>
          <a:blip r:embed="rId1"/>
          <a:stretch/>
        </p:blipFill>
        <p:spPr>
          <a:xfrm>
            <a:off x="304920" y="1828800"/>
            <a:ext cx="40384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5136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38840" indent="-43884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o connect their huge empire, runners carried messages over 10,000 miles of stone paved roads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3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70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oudy Stout"/>
              </a:rPr>
              <a:t>INC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4" name="Picture 7" descr="roadway"/>
          <p:cNvPicPr/>
          <p:nvPr/>
        </p:nvPicPr>
        <p:blipFill>
          <a:blip r:embed="rId1"/>
          <a:stretch/>
        </p:blipFill>
        <p:spPr>
          <a:xfrm>
            <a:off x="228600" y="2362320"/>
            <a:ext cx="4267080" cy="29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P027_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P027-KEY"/>
          <p:cNvPicPr/>
          <p:nvPr/>
        </p:nvPicPr>
        <p:blipFill>
          <a:blip r:embed="rId2"/>
          <a:stretch/>
        </p:blipFill>
        <p:spPr>
          <a:xfrm>
            <a:off x="228600" y="4495680"/>
            <a:ext cx="3276720" cy="22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ay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thrived from A.D. 300-900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Southern Mexico &amp; Central America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Tikal was largest city (present-day Guatemala)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Mayan priests controlled everything (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heocracy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skilled in astronomy &amp; mathematics                     (example – 365-day calendar)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first written language in the Americas (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hieroglyphics</a:t>
            </a: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why civilization declined in A.D. 900 is a mystery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WebPage-Imag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tikal-aerial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1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guatemala_tika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zte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1325-1519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Central Mexico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island in Lake Texcoco chosen because of religious sign (eagle perched on cactus with snake in beak)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society organized around religion (human sacrifices)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Tenochtitlan was once the largest city in Americas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f8f8"/>
                </a:solidFill>
                <a:latin typeface="Arial"/>
              </a:rPr>
              <a:t>military empire kept growing by conquering others</a:t>
            </a:r>
            <a:endParaRPr b="0" lang="en-US" sz="2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flag_mexic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9T02:26:14Z</dcterms:created>
  <dc:creator>HP Authorized Customer</dc:creator>
  <dc:description/>
  <dc:language>en-US</dc:language>
  <cp:lastModifiedBy>San Diego City Schools</cp:lastModifiedBy>
  <dcterms:modified xsi:type="dcterms:W3CDTF">2011-10-12T19:10:38Z</dcterms:modified>
  <cp:revision>42</cp:revision>
  <dc:subject/>
  <dc:title>Early Peoples</dc:title>
</cp:coreProperties>
</file>